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CAA-431D-429E-972F-E6D708BDD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AF88-71E4-4723-B434-142EA5C7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041-2646-4185-8D04-8A424178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E0F-BBC1-4B30-A440-68E1A8C0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5C12-BEA9-42BE-A9C7-8FAEB898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3F4F-A721-4DBE-831E-40C91E83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C09-742F-4CFE-8861-3162B789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0B5D-E356-4B69-849E-68FCFEE9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88C-6A7D-4FBF-8216-187811BB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D697-B50B-466B-B55D-40AF7873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C336-27A1-4F76-9936-83B20575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319-9F3C-4692-9F7E-C419AD8C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6276-FF61-4207-ABCE-26C7D6EC4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2409840"/>
            <a:ext cx="7772400" cy="24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. вежба:</a:t>
            </a:r>
            <a:br>
              <a:rPr sz="28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2294640" y="1197000"/>
            <a:ext cx="44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2124000" y="157968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РТСКА ФА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конди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484280"/>
            <a:ext cx="8712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ста може бити добро кондиционо припремљен, али постизање најбољег тренутног резултата зависи од многих фактора, као што су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тивација пре такмичења и током такмичењ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храна и физичка активност непосредно пре такмичењ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иматски услови у месту одржавања такмичења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..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ћење физичке кондиције и спортске форме може се вршити разним дијагностичким тестовима и методама, што знатно утиче на напред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6000" y="1267920"/>
            <a:ext cx="8712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 бисмо проценили физичку способност спортисте, потребно је пре свега прецизирати укупну дозу или волумен физичке активности коју особа упражњава, а која зависи од фактора који су садржани у такозваном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FITT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нцип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еквенција: колико често је особа укључена у физичку активност (најчешће се изражава кроз број физички активних сати у седмици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нзитет: која јачина/интензитет физичке активности се упражњава (најчешће се квантификује као лака, умерена и интензивна/снажна физичка активност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реме: трајање једне сесије физичке активнос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ип: специфична врста/тип вежби у коју је особа укључена (на пример трчање, пливањ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Ð ÐµÐ·ÑÐ»ÑÐ°Ñ ÑÐ»Ð¸ÐºÐ° Ð·Ð° FITT principle"/>
          <p:cNvPicPr/>
          <p:nvPr/>
        </p:nvPicPr>
        <p:blipFill>
          <a:blip r:embed="rId1"/>
          <a:stretch/>
        </p:blipFill>
        <p:spPr>
          <a:xfrm>
            <a:off x="179280" y="1989000"/>
            <a:ext cx="8785440" cy="3600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179280" y="2133720"/>
            <a:ext cx="720720" cy="2808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2642400" y="1052640"/>
            <a:ext cx="35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FIIT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нц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628280"/>
            <a:ext cx="8712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бинацијом наведених фактора можемо одредити укупни волумен, односно дозу физичке актив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јчешћи начин изражавања укупне количине или дозе физичке активности јесте кроз мерење потрошње енергије или утрошак калорија, што представља важан параметар у детерминацији физичке способности одређеног спортисте у одређеној спорткој дисципли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Ð ÐµÐ·ÑÐ»ÑÐ°Ñ ÑÐ»Ð¸ÐºÐ° Ð·Ð° FITT principle"/>
          <p:cNvPicPr/>
          <p:nvPr/>
        </p:nvPicPr>
        <p:blipFill>
          <a:blip r:embed="rId1"/>
          <a:srcRect l="0" t="28888" r="0" b="9485"/>
          <a:stretch/>
        </p:blipFill>
        <p:spPr>
          <a:xfrm>
            <a:off x="2268360" y="3860640"/>
            <a:ext cx="4692960" cy="27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483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 способношћу у ширем смислу подразумева се скуп урођених фактора и стечених услова који омогућавају вршење (упражњавање) неке активности (делат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а за развој способности се код људи веома разликује и зависи од наследних и анатомско-физиолошких способ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Ð ÐµÐ·ÑÐ»ÑÐ°Ñ ÑÐ»Ð¸ÐºÐ° Ð·Ð° fizicka sposobnost"/>
          <p:cNvPicPr/>
          <p:nvPr/>
        </p:nvPicPr>
        <p:blipFill>
          <a:blip r:embed="rId1"/>
          <a:stretch/>
        </p:blipFill>
        <p:spPr>
          <a:xfrm>
            <a:off x="2771640" y="3933720"/>
            <a:ext cx="40402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1412640"/>
            <a:ext cx="5113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ђу предиспозиција и развоја способности дуг је развојни проц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е не условљавају, али предодређују ниво способности човека и његове могућ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ји више теорија о способностима, њиховом пореклу, факторима развоја и врста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е се више ослањају на значајну улогу фактора наслеђа, док друге придају већи значај социјалној средини, међутим, активност појединаца је заједничка карактеристика свих теориј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Ð ÐµÐ·ÑÐ»ÑÐ°Ñ ÑÐ»Ð¸ÐºÐ° Ð·Ð° physical capabilities"/>
          <p:cNvPicPr/>
          <p:nvPr/>
        </p:nvPicPr>
        <p:blipFill>
          <a:blip r:embed="rId1"/>
          <a:srcRect l="5057" t="6743" r="5621" b="8993"/>
          <a:stretch/>
        </p:blipFill>
        <p:spPr>
          <a:xfrm>
            <a:off x="5435640" y="2036880"/>
            <a:ext cx="345744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920" y="1557360"/>
            <a:ext cx="8362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обности се манифестују у </a:t>
            </a:r>
            <a:r>
              <a:rPr b="0" lang="sr-Latn-RS" sz="24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д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Diagram 3" descr=""/>
          <p:cNvPicPr/>
          <p:nvPr/>
        </p:nvPicPr>
        <p:blipFill>
          <a:blip r:embed="rId1"/>
          <a:stretch/>
        </p:blipFill>
        <p:spPr>
          <a:xfrm>
            <a:off x="579600" y="2200320"/>
            <a:ext cx="4582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628280"/>
            <a:ext cx="83628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рмин који је повезан с физичком активношћу јесте физичка способност, која подразумева функционалну способност човековог организма да се адекватно носи са свакодневним физичким напорима на радном месту, у дому, на улици и тако даљ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9" descr="Ð ÐµÐ·ÑÐ»ÑÐ°Ñ ÑÐ»Ð¸ÐºÐ° Ð·Ð° physical capabilities"/>
          <p:cNvPicPr/>
          <p:nvPr/>
        </p:nvPicPr>
        <p:blipFill>
          <a:blip r:embed="rId1"/>
          <a:srcRect l="5057" t="6743" r="5621" b="8993"/>
          <a:stretch/>
        </p:blipFill>
        <p:spPr>
          <a:xfrm>
            <a:off x="3348000" y="3645000"/>
            <a:ext cx="30956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6000" y="2060640"/>
            <a:ext cx="8712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зичку способност човека карактерише функцијска интеграција чинилаца као што с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рфолошке карактеристике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ишићна способност (мишићна снага и мишићна издржљивост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диоваскуларна способност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спираторна способнос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нергетска способност 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дна ефикасно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способнос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1628280"/>
            <a:ext cx="871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да описујемо физичку способност спортиста, важно је издвојити седам физичких својстава човека, а то су снага, брзина, издржљивост, координација, равнотежа, прецизност и покретљивос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Ð ÐµÐ·ÑÐ»ÑÐ°Ñ ÑÐ»Ð¸ÐºÐ° Ð·Ð° physical abilities"/>
          <p:cNvPicPr/>
          <p:nvPr/>
        </p:nvPicPr>
        <p:blipFill>
          <a:blip r:embed="rId1"/>
          <a:srcRect l="0" t="28412" r="0" b="0"/>
          <a:stretch/>
        </p:blipFill>
        <p:spPr>
          <a:xfrm>
            <a:off x="1187280" y="3591000"/>
            <a:ext cx="60771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кондиц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48428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зичка кондиција подразумева скуп свих карактеристика повезаних са здравственим статусом, а у неким случајевима и са спортским исходима или вештинама и подразумева физичку припремљеност особе за извођење општих или специфичних физичких активности вишег интензитета и већег обим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Ð ÐµÐ·ÑÐ»ÑÐ°Ñ ÑÐ»Ð¸ÐºÐ° Ð·Ð° fizicka kondicija"/>
          <p:cNvPicPr/>
          <p:nvPr/>
        </p:nvPicPr>
        <p:blipFill>
          <a:blip r:embed="rId1"/>
          <a:stretch/>
        </p:blipFill>
        <p:spPr>
          <a:xfrm>
            <a:off x="2627280" y="3573360"/>
            <a:ext cx="43513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ка конди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0600" y="1341360"/>
            <a:ext cx="8362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езана је с издржљивошћу у физичким активностима аеробног и анаеробног типа и директно зависи од функционалности организма (кардиоваскуларног и респираторног система, локомоторног апарата и тако даље), од здравственог статуса, генетике, узраста, пола и тренира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епен развијености ових карактеристика код човека се одражава на физичку способност у свакодневним животним околностима, а код спортиста на спортске резулта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ска форма подразумева стање тренираности спортисте које му омогућава постизање његових тренутних најбољих резулта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07:24:21Z</dcterms:created>
  <dc:creator>Vlada Jakovljevic</dc:creator>
  <dc:description/>
  <dc:language>en-US</dc:language>
  <cp:lastModifiedBy>Vladimir Jakovljevic</cp:lastModifiedBy>
  <dcterms:modified xsi:type="dcterms:W3CDTF">2018-10-03T09:13:02Z</dcterms:modified>
  <cp:revision>40</cp:revision>
  <dc:subject/>
  <dc:title>Демијелинизационе болести Мијастенија гравис</dc:title>
</cp:coreProperties>
</file>